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9.png" ContentType="image/png"/>
  <Override PartName="/ppt/media/hdphoto2.wdp" ContentType="image/vnd.ms-photo"/>
  <Override PartName="/ppt/media/image17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hdphoto1.wdp" ContentType="image/vnd.ms-photo"/>
  <Override PartName="/ppt/media/image16.png" ContentType="image/png"/>
  <Override PartName="/ppt/media/image10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4B03D-69CE-4605-9AA8-71F83E2C2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2BDBA5-8F13-445E-B22E-26443A5F67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ющ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cel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мозящи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AFC6DB-8514-4606-8548-02DEE679B3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shel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щита от перегру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taper pin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нический штиф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, retaning r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жимное коль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F97C7E-455C-4D39-BBD1-42118E35D01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854-D19F-42AB-9898-B20A27B6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0CB-CE17-469B-872C-1ECAEB80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2E8-A496-440D-B0CD-D4DEE33D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488-25CC-4680-8041-84B77A7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5A0D-4054-49D3-8DBC-AFD5F669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BA63-821E-46AF-9B47-ACD8D4B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FE85-9BBD-4E2B-80B4-CAB2D032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139C-9AD5-443E-A208-D3F2660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985C-1E7B-44E5-843A-0ED5B97A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0CE8-82CD-47EE-83B3-936C7F0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C4E3-6855-4328-A463-1939C4B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BD5-8D19-4ECF-A7E5-67D1E28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DEA6-EFA2-4A35-8CF9-2480216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8D5-6D38-423A-BE4D-37531FE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8781-5EFE-4FF6-ABFD-7DC3457A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78D7-8728-4EB9-B3E6-3A25AAAE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DFE-E559-43D6-9A1A-2614000B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ACF-D20C-4903-9A8C-0359302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8E3-CC89-42BE-8089-89BDCF87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134-6D7F-43BB-931F-8A1EC2AE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5DE-12C5-4BF1-8FAC-82A9ACB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138-D70C-45D9-B595-47D6C43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8F3-7473-43FE-9121-3DD5562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511-FD20-4991-8BD5-7A8C31D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9C40D7-CED0-46A5-9C7D-3E0F5878162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439872-1D96-41AF-B90C-393343269D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3000" bright="48000"/>
                    </a14:imgEffect>
                  </a14:imgLayer>
                </a14:imgProps>
              </a:ext>
            </a:extLst>
          </a:blip>
          <a:stretch/>
        </p:blipFill>
        <p:spPr>
          <a:xfrm rot="10800000">
            <a:off x="15480" y="360"/>
            <a:ext cx="8640720" cy="672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1691640" y="188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60640"/>
            <a:ext cx="6768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онный источник Радика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11640" y="1340640"/>
            <a:ext cx="820872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6" name="Рисунок 3" descr="https://im0-tub-ru.yandex.net/i?id=c229987f9bcc2527709d6c28e1ac4a0b&amp;n=13"/>
          <p:cNvPicPr/>
          <p:nvPr/>
        </p:nvPicPr>
        <p:blipFill>
          <a:blip r:embed="rId1"/>
          <a:stretch/>
        </p:blipFill>
        <p:spPr>
          <a:xfrm>
            <a:off x="1015920" y="1556640"/>
            <a:ext cx="3533400" cy="26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http://vacuumkomplekt.ru/wp-content/uploads/2017/03/%D0%98%D1%81%D1%82%D0%BE%D1%87%D0%BD%D0%B8%D0%BA-%D0%B8%D0%BE%D0%BD%D0%BE%D0%B2-%D0%98%D0%98-4-0.15_5_1-1.jpg"/>
          <p:cNvPicPr/>
          <p:nvPr/>
        </p:nvPicPr>
        <p:blipFill>
          <a:blip r:embed="rId2"/>
          <a:stretch/>
        </p:blipFill>
        <p:spPr>
          <a:xfrm>
            <a:off x="4860000" y="2133000"/>
            <a:ext cx="381168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640" y="692640"/>
            <a:ext cx="82292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 повышения  равномерности  плотности  ионного тока на поверхности подложки делают трубчатые пучки расходящимися и наклонными за счет оответствующего изменения конфигурации (электродов) магнитного и электрического по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95640" y="2715840"/>
            <a:ext cx="50018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640" y="1526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нный источник Ион-3 имеет полый катод в центре  и  два  разрядных  кольцевых  промежутка  соосно  с ни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7" marL="3429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-3. I, II  — кольцевые разрядные промежутки, III — центральная ячейка Пеннинга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8360" y="3779640"/>
            <a:ext cx="3361680" cy="19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30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ячеистые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 другому  классу  ионных  источников  относятся ионные источники типа Ион-поток, Ион-4.  В  этих  конструкциях  ионных  источников  с  холодным катодом  разрядные ячейки  расположены  гексагонально  по  поверхности .  Магнитная  система  образована  из  корпуса, многоштырьевой матрицы и совмещенного с ней многоячеистого фланца,  выполненного  из  магнитомягкого материала. Магнитный поток возбуждается соленоидом и равномерно распределяется между разрядными  ячейками, образуя в них магнитные поля с одинаковым значением магнитной индук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одная  матрица  расположена  между  дном  источника и многоячеистым катодным фланцем и имеет отверстия, через которые проходят штыри магнитной системы.  Подача  рабочего  газа  в  области  разряда  осуществляется  через  отверстия  в  штырях  магнитной системы,  и  газ  распределяется  равномерно  по  каждой разрядной ячей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аких ионных источниках мы имеем область горения разряда, также определенную скрещенными магнитным  и  электрическим  полями.  Из  этого  условия следуют,  соответственно,  траектории  ионов,  определяемые  силовыми  линиями  электрического  поля.  Из картины  силовых  линий  электрического  поля  следует, что ионные пучки имеют конусную форму и на определенном расстоянии перекрещиваются, а ионы испытывают  соударения.  К  недостаткам  этого  класса  ионных источников следует отнести большой угол падения ионов на подложку, что делает невозможным получение вертикальных структур, а также распыление катодных электродов и попадание примеси металла в ионный пучок. Жестким  требованиям,  предъявляемым  к  параметрам  ионного  пучка,  для  осуществления  травления  п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проводниковых  пластин  в  производстве  изделий микрофотоэлектроники  в  большей  степени  удовлетворяют источники ионов с холодным катодом в виде полого цилиндра .  В  таких  источниках  возможно  получение  ионного пучка большой площади с высокой равномерностью и достаточно малой расходимостью. Высокая равномерность достигается за счет большого числа одинаковых разрядных  промежутков.  Для  формирования  ионного пучка  диаметром 100 мм  необходимо  создать 37 разрядных промежутков, а для формирования равномерного ионного пучка диаметром 200 мм их требуется уже 139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14280" y="3609360"/>
            <a:ext cx="4611240" cy="283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282280" y="336528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14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Кауфм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3640" y="620640"/>
            <a:ext cx="799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 ионно-лучевой  обработки  наибольшее распространение  получили  сеточные (многоапертурные) ионные источники, получившие в литературе  название  источников  Кауфмана. Первоначально устройство было разработано как ионный  движитель  по  космической  программе NASA в 1960'х годах. Позже он был адаптирован для  модификации  материалов  и  ионного  распыления мишеней. Обычно в его состав входит термоэлектронный катод, анод и несколько сеток для многоапертурной  экстракции.  Для  повышения степени ионизации газа и создания широких пучков  с  высокой  равномерностью  создается  соосное магнитное поле с индукцией 3 – 5 мТл. В таких устройствах ионизация происходит в разрядной камере в пространстве анод – накаливаемый катод, при напряжении разряда не превышающем 100 В, а пучок формируется с помощью электростатической  ионно-оптической  системы (ИОС),  выполненной в виде одной, двух или трех сеток. При этом обеспечивается давление  газа  в  разрядной  камере  источника  порядка 10-1 Па при общем давлении в камере 5 10-3 Па и коэффициенте  использования  рабочего  газа  до 80%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нение  таких  устройств  крайне  ограничено вследствие ряда недостатков: потенциальная ненадежность накальных элементов (особенно  при  использовании  активных  газов)  и  как  следствие  сложность  получения  потока  ионов  с высокой  равномерностью;  наличие  ограничений о  плотности  тока  экстрагированных  ионов  при низких (особенно  менее 100 эВ)  энергиях,  которое  определяется  исходя  из  закона  Чарльда – Ленгмюра, и сравнительно небольшая (не более 1,2 мА/см2) плотность тока при энергиях порядка 1 кэВ , что  связано  с  низкой  плотностью плазмы  генерируемого  разряда  и  высокими  требованиями  к  изготовлению  и  юстировке  ИОС. Следует отметить ряд достоинств, определяющих применение многопучкового источника в ионной технологии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I. Низкое напряжение разряда (20 В) уменьшает возможность распыления стенок камеры. Ионный пучок содержит небольшое количество примесей (10-6 %) и имеет малый энергетический разброс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Механизм поддержания стационарного разряда допускает большой диаметр камеры при однородном распределении в ней плазмы, что, в свою очередь, позволяет применять многолучевое извлечение ионного пучка и работать с однородными потоками большого диаметра. и узким энергетическим спектром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сцилляция электронов позволяет использовать низкое давление в разрядной камере и поддерживать, таким образом, хороший вакуум в рабочей камере технологической установки, что снижает потери пучка и уменьшает загрязнение мишени. 14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Источник имеет высокий газовый к.п.д. (80 %) и высокий энергетический к.п.д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95640" y="4057560"/>
            <a:ext cx="2592000" cy="182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s://mirznanii.com/images/33/96/7219633.jpeg"/>
          <p:cNvPicPr/>
          <p:nvPr/>
        </p:nvPicPr>
        <p:blipFill>
          <a:blip r:embed="rId2"/>
          <a:stretch/>
        </p:blipFill>
        <p:spPr>
          <a:xfrm>
            <a:off x="4068000" y="3789000"/>
            <a:ext cx="3085920" cy="1800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3204000" y="5895720"/>
            <a:ext cx="525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1 - термокатод, 2 - экран катода,3 - цилиндрический анод, 4 - соленоид, 5 - ввод рабочего газа,6 - плазма,7 - эмиссионный электрод, 8 - ускоряющий электрод, 9 - замедляющий электрод, 10 - ионный пучок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оплазмотро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24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оплазмотрон  предназначен для получения ионных пучков высокой интенсивности из газообразных веществ. Разряд в газе слабого давления поддерживается в области между катодом и анодом, в котором имеется малое отверстие (0.5-1.5 мм). Наличие неоднородного магнитного поля и промежуточного электрода позволяет сконцентрировать область разряда в очень малой пространственной области, что и позволяет получать большие токи, за счет увеличения числа столкновений в единицу времени. Толщина полости между анодом и промежуточным электродом составляет 2-5 мм. Экстракция производится из области максимума магнитного поля, где поверхностная плотность ионов может достигать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онов/см2. Пучок обладает очень сильной расходимостью, для уменьшения которой используют вытягивающие электроды специальной формы. Вся система требует охлаждения. Ток пучка, создаваемый дуоплазмотроном, составляет порядка 100 мА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03640" y="3357000"/>
            <a:ext cx="5819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17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346320" indent="-346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частотные источники предназначены для получения легких ионов путем объемной ионизации газов требуемых элементов. Плазма генерируется высокочастотным электромагнитным полем (10-30 МГц) с мощностью порядка 100 Вт в газе, находящемся под давлением примерно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рр. ЭМ мощность подается или индуктивно (источник помещается в катушку), или через электроды, введенные в объем источника. Позволяет получать токи 1-20 мА, но обладают большим энергетическим разбросом 1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699640" y="2781000"/>
            <a:ext cx="4032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аточно совершенным способом создания плазмы является применение для ионизации атомов микроволнового разряда в условиях электронно-циклотронного резонанса, возбуждаемого на ЭЦ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/m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магнитном поле порядка 1 Тл требуется СВЧ излучение с частотой более 28 ГГц, при этом получен поток плазмы с площадью сечения 800 см2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шная работа всех ЭЦР-источников обусловлена следующими причинам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сутствие расходуемых составляющих, что приводит чрезвычайной надежности и стабильности. Время работы составляет десятки дн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сокая температура электронов (1-101 кэВ) и относительно низкое давление нейтрального газа в плазме позволяют получать высокие концентрации многозарядных ион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виду избирательного нагрева ионы остаются холодными, что уменьшает энергетический разброс выводимого пучка. Эмиттанс определяется главным образом размером выходного отверст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03640" y="3645000"/>
            <a:ext cx="3270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26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зерный источни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506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зерный луч большой мощности, сфокусированный на поверхности твердой мишени, при плотности мощности 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т/см2 будет проходить через поверхность, где плотность электронов низка, и распространяться до тех пор, пока электронная плазменная частота не станет соответствовать частоте лазера. При достижении этого условия происходит быстрый электронный нагрев и интенсивная ионизация, создается плотная горячая плазма. Материал мишени «взрывается», образуя чрезвычайно плотную плазменную струю, распространяющуюся в направлении наибольшего градиента гидродинамического давления, обычно перпендикулярно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о полезными свойствами для ионных источников плазменных выбросов являются: 1) значительное количество ионов в выбросе; 2) высокая степень ионизации; 3) короткое время генерирования плазмы; 4) направленность плазменных выбросов (их можно ориентировать вдоль оси вытягивания, что привет к малым эмиттансам пучка); 5) возможность создания разнообразных ядерных частиц, потенциальным источником плазмы является любой твердый материал; 6) простота проектирования и изготовления; 7) отсутствие газа-носител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411640" y="3645000"/>
            <a:ext cx="32173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ионов металл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25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личии от ионных источников, использующих для создания пучков ионов атомов газа, методы получения сильноточных источников ионов металлов более ограниченны. В источниках ионов металлов используется, как правило, испарение, поверхностная ионизация или распыление ионов металла при помощи газов носител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куумная дуга в парах металла является плазменным разрядом между двумя металлическими электродами в вакууме. Давление должно достаточно низким, чтобы остаточный газ не влиял на процессы в разряде. Основная черта разряда данного типа – образование катодных пятен, очень маленьких областей с большой плотностью тока (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см2) на поверхности катода, где материал катода испаряется и ионизируется. По аналогии с нагревом лазером, устанавливается большой градиент давления, который заставляет плазму двигаться сначала перпендикулярно катоду, а затем в направлении анода. Именно эта распространяющаяся плазменная струя и составляет среду, из которой происходит вытягивание ионов. Отличительной чертой источников данного типа является возможность получения очень больших токов ионов металла, которые как правило находятся в разнозарядовом состоянии. Большой ток позволяет сепарировать ионы по зарядовому состоян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15640" y="3357000"/>
            <a:ext cx="361656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адении ускоренных ионов (энергия 0.1 – 100 кэВ) на поверхность твердого тела возможны следующие виды взаимодействий: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братное рассеяние иона атомом или группой атомов на  поверхности.  При  этом  происходит  отклонение  траектории иона и обмен энергией с поверхность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Атомная дислокация – смещение после удара атома на поверхности в положение с более сильной связью со структурой образц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нутренние дислокации в веществе при облучении ионами с большой энерг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изическое распыление – удаление с поверхности оного  или  нескольких  атомов  при  передаче  большого  импульса  ион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онная  имплантация – проникновение  быстрого  иона вглубь кристаллической решетк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Образование на поверхности новых химических соединений, в некоторых случаях поверхностный слой оказывается в газообразном состоянии и испаряется (химическое распыление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Отражение ионов от поверхности в виде нейтральных частиц в результате оже – нейтрализации. Потенциальная ионно-электронная эмиссия – испускание электрона атомом твердого тела через оже-процесс.  При сближении иона с твердым телом на атомные расстояния возможен переход электрона из твердого тела на нижележащие уровни иона. Высвободившаяся энергия атома через оже-процесс передается другому электрону твердого тела, который может выйти в вакуум. Спектр этих электронов содержит информацию о плотности энергетических состояний электронов в приповерхностных слоях материала. Этот метод исследования электронной структуры твердых тел называетс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онно-нейтрализационной спектроскоп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ьные пики на этой зависимости позволяют реализо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ионной оже-спектроскоп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Вторичная ион – электронная эмисс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Адсорбц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Вторичная ион – ионная эмиссия – ионизация и удаление атомов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967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324000" indent="-324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ометаллические источники состоят из жидкометаллического покрытия на игольчатой подложке. Приложение потенциала в несколько киловольт в высоком вакууме к расположенному рядом вытягивающему электроду приводит к деформации жидкого металла на конце иглы с образованием конуса. На вершине стабилизированного конуса электрическое поле достаточно для создания ионных токов. Этот источник обладает очень высокой яркостью,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(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∙ср) и невысоким энергетическим разбросом(менее 10 эВ). Ограничением является применение только таких чистых элементов, которые являются проводниками и имеют низкое давление пара при температуре пла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691640" y="3285000"/>
            <a:ext cx="54003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ение коэффициента распыления ионами аргона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скобках – эксперимент)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27640" y="2277000"/>
            <a:ext cx="7197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2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изико-химические процессы в твердом теле 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висимости от энергии бомбардирующих ионов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32000" bright="3000" contras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31640" y="1917000"/>
            <a:ext cx="6768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энергии ион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4348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нализе процессов потери энергии ионом различают два основных механизма: соударения с электронами и соударения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неупругий механизм состоит в том, что быстрый ион взаимодействует с электронами кристаллической решетки, в результате  чего  возникает  возбуждение  и  ионизация  атом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сталла.  Так  как  плотность  электронов  в  веществе  высока, этот процесс можно считать непрерывны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тором упругом взаимодействии  происходит  обмен  энергией  между  экранированными  зарядами  ядер  первичного  иона  и  атомами  мишени. Его можно рассматривать как столкновение двух частиц. Ионы высоких  энергий  хорошо  описываются  резерфордовским  рассеянием, ионы средних энергий– экранированным кулоновским рассеян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их механизмов, вклад в энергетические потери дают обмен зарядами между движущимся ионом и атомом мишени. Этот обмен особенно эффективен, когда относительная скорость иона сравнима с боровской скоростью электрона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/с (более 10э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 образом,  полные  потери  энергии  можно  представить в виде суммы трех составляющих – ядерной, электронной, и обменной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99640" y="4005000"/>
            <a:ext cx="3543120" cy="79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644000" y="3754800"/>
            <a:ext cx="3686760" cy="14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90520" indent="-29052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действие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 вычисления  потерь,  обусловленных  упругими взаимодейств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еобходимо знать ядерный потенциал  экранирования. Хорошую приближенную формулу для энергетических  потерь  можно  получить,  используя  для  потенциала  обратную квадратичную зависимос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атомные номера и массы первичного иона и атомов  кристаллической  решетки  соответственно; N – концентрация атомов, число частиц/н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четы по этой формуле дают для большинства вариантов «ион – атом мишени» величину коэффициента  энергетических  потерь  в  диапазоне 100 – 1000 эВ/н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идно из формулы , замедляющая способность вещества не зависит от энергии. Поэтому пробег иона определяется равенство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47640" y="4719240"/>
            <a:ext cx="5040360" cy="168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547640" y="1772640"/>
            <a:ext cx="4807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858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заимодействие с электронам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23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 замедления  тяжелых  ионов  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ультате взаимодействия  с  электрон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ри  низких  и  промежуточных энергиях  учитываются  в  модели  Линдхарта,  Шарфа  и  Шиотта (ЛШШ). В соответствие с этой моделью, энергетические потери пропорциональны скорости иона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k′ =  3,28 10-3(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N, э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/н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т от типа первичного иона и материала мише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915640" y="3069000"/>
            <a:ext cx="2232000" cy="9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58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ег ион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2320" y="908640"/>
            <a:ext cx="8195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348840" indent="-34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числении длины пробега иона можно считать, что потери  на  ядерные  и  электронные  взаимодействия  не  связаны друг с другом. Тог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04560" y="1484640"/>
            <a:ext cx="4131000" cy="1189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22200" y="2891880"/>
            <a:ext cx="857016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я разложение Тейл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щем случае замедляющая способность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а, то равенство можно проинтегрировать и найти полное расстоя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 ион с энергией 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ходит до о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449600" y="2775960"/>
            <a:ext cx="2773800" cy="92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763640" y="3346560"/>
            <a:ext cx="2178720" cy="59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6062040" y="3814920"/>
            <a:ext cx="3098160" cy="73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>
            <a:off x="3298680" y="5477040"/>
            <a:ext cx="3360960" cy="6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6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роведении технологических операций более важной величиной является глубина, на которой остановится ион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блучении образца вдоль нормали к поверхности глубина вне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ния  совпадает  с  проекцией  траекторного  пробега  на  перв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ьное направление движения иона. Эта величина называется  проекционным  пробегом Rp.  Кроме  того,  иногда  необходим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расстояние, на которое сместится ион до своей останов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 начального  направления  движения,  т.е.  поперечный пробег  R⊥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вести еще и векторный пробег Rc , который представляет собой вектор, проведенный из точки начала движения иона в твердом теле к точке его остановки. Три последние величины связаны соотношением  R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R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R⊥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  источники ионов (ИИ) для ИЛО могут быть классифицированы  в  две  группы:  сильноточные  источники ионов низких энергий и источники ионов высоких энергий. К низким энергиям относятся ионы  с  энергиями  в  диапазоне  до  нескольких  кэВ,  а  к высоким — в интервале от нескольких кэВ до нескольких  сотен  кэВ . Для  ионно-ассистированного синтеза тонкопленочных структур, как правило, требуются ионы с энергиями в диапазоне 10 –150 эВ, а для проведения процессов  активации,  очистки  поверхности  и  распыления мишени — ионы с энергиями в диапазоне 150 –20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процессах  ионно-лучевой  обработки (ИЛО) наибольшее  распространение  наши  сильноточные  источники  ионов  низких  энергий  с  широкой диаграммой  направленности  пуч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  <Words>2470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2T02:18:37Z</dcterms:created>
  <dc:creator>Sasha</dc:creator>
  <dc:description/>
  <dc:language>en-US</dc:language>
  <cp:lastModifiedBy>Александр Беркин</cp:lastModifiedBy>
  <dcterms:modified xsi:type="dcterms:W3CDTF">2019-09-23T04:01:32Z</dcterms:modified>
  <cp:revision>30</cp:revision>
  <dc:subject/>
  <dc:title>Ионный источник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